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7BF-26B4-48F4-9852-C85146D0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714-FE08-4CA7-9940-470017ED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FAC-D52D-4CA1-894C-7BF882AA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C8F-140E-49DC-A54C-CBB217BA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6643-14D6-464B-B88B-A6139D60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117E-1A9D-4679-86A5-3B0CAD6D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697C-695F-4F33-B0D5-8A2602B4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A0D1-F46C-421E-929F-AC6BED1A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0AE4-5F74-4D45-96B1-1237CA8D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23D9-96CA-4189-87E8-2A99CD05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4E2F-1CAF-485B-A6A1-E9E5496D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6EF1-293D-489E-9E2D-8148395E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C511-D1BA-48B2-BF6D-B633A0ED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EBDE-CD13-45EA-9193-5CEF0604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85F2-AB94-42C1-855F-F7207922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BF1A-D9BE-4861-9B8B-C85335FC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3048-7B42-48D8-92E6-8D2783BC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E32-05C5-4337-BDD9-2E245549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602-98A0-4825-9EA4-CEDA7DDC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2E8-AC92-4A0F-9150-C016E7BE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1B6F-5648-4698-9B5C-FFADCB6B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4F9-4046-40F2-920D-7F75D14B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4B30-9B25-410E-B305-B19D0D8C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3A4-FA02-4ECE-8907-0EB4CBF9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F56E-FE23-49A9-939C-EDA00F8627E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EC8B-1744-44D0-9E00-F77A9483ED7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3128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50920" y="260280"/>
            <a:ext cx="8893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Презентация школьного урока о русской выхухоли</a:t>
            </a:r>
            <a:br>
              <a:rPr sz="4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(                      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для детей 11-13 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Места  обитания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600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йменные угодья лесной зоны. Это  глубокие,  речные заводи с очень слабым течением. Небольшие озера (глубина 2-3 м.) с высокими берегами и хорошо развитой прибрежной и водной растительностью, богатой фауной беспозвоночных. В таких озерах устойчив уровень воды, они не пересыхают летом и не промерзают зимой, а берега удобны для строительства но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йменный лес создает определенный микроклимат в пойме, способствует благоприятному гидрорежиму водоемов. В период весенних разливов он, к тому же, выполняет защитные функ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716360" cy="2997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3621240"/>
            <a:ext cx="4680000" cy="32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788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Особенности строения выхухоли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03280" y="0"/>
            <a:ext cx="4140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лотное валикообразное тело (450 г.),длина около 20 см, короткая малоподвижная  шея, голова конусовидной формы с длинным подвижным хоботком, сплющенный с боков  чешуйчатый хвост. В 1-1,5 см от его основания располагается подхвостовая железа,  выделяющая вещества с резким мускусным запахом.Секрет подхвостовой  железы используется зверьком для мечения территории. Лапки небольшие пальцы соединены  плавательными перепонк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932360" cy="2663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4896000" cy="29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10552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Глаза маленькие, зрение слабое. Ушные раковины отсутствуют, но слух хороший. При погружении в воду ушные щели механически закрываются, а носовые отверстия замыкаются специальными  клапанами. Мех густой, шелковистый и блестящий; на спине буроватый, на горле, груди и брюшке –серебристо – белый. Структура волосяного покрова позволяет удерживать значительное количество воздуха, когда зверек находится в воде. Это обеспечивает ненамокаемость меха при плавании зверька, что очень важно для его теплорегуляции и гидродинами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27640" cy="3429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3500280"/>
            <a:ext cx="5292720" cy="33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браз жизни хохул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6720" y="1341360"/>
            <a:ext cx="4067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верек прекрасно плавает, при нырянии задерживает дыхание на 5 минут. Выхухоль очень осторожна. Если повезет, рано утром или поздно вечером можно заметить торчащий из воды хоботок или голову высунувшегося подышать животног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521964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Взаимоотношения с соседями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074160" y="0"/>
            <a:ext cx="69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92280"/>
            <a:ext cx="914400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Неблагоприятны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Лисица,выдра,горностай,хорь, ондатра и др. хищные звери – уничтожают зверьков, их норы, кормовую ба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Благоприятны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выхухоль поедает брюхоногих моллюсков, котрые являются промежуточными хозяевами трематод. Таким  образом  защищает бобров от гельмин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Рыбаки избегают ставить сети в районе бобровых поселений. Они портят снасти. Это спасает выхухоль от попадания в сети, от гиб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ыхухоль – индикатор эколоического благополуч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435280" y="1557360"/>
            <a:ext cx="3708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ыхухоли могут жить только в очень чистой воде, поэтому присутствие в водоеме этих зверьков служит индикатором его экологического благополуч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Хохуля всеядна. Охотнее всего поедает пиявок, моллюсков,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личинок насекомых, дождевых червей, мелких рыбешек, а также различные растительные корм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5148360" cy="2592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5148360" cy="27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Размножение выхухоли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6000" y="691920"/>
            <a:ext cx="442764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о взрослой популяции русской выхухоли самцы и самки представлены примерно поровну. Размножается в течение всего года. Приплод появляется в первые летние месяцы и осенью. Во время половодья Зверьки издавая своеобразные звуки, гоняются друг за другом, спариваютс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Беременность длится 45 – 50 дней. В начале лета появляются хохулята (до 5 в помете), голые, слепые, беззубые. В это время мать проявляет большую заботу о детях. Больше месяца кормит их молоком. К 8 -10 месяцам они переходят к самостоятельной жизн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4946760" cy="609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400536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57 году в России ввели запрет на добычу выхухоли.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ие  факторы негативно влияют на популяции этого зверьк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Сокращение численности выхухоли связано с воздействием антропогенных факторов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70 – 1980 г. Загрязнение и сельскохозяйственное освоение речных пой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1 век- массовое незаконное использование ставных лесочных сетей и электроудоче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арегулирование стока ре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астройка берегов водоем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оздание водохранилищ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пас скота вблизи водоем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хождение туристов и рыболов – любител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Основные причины бедственного положения выхухоли – использование рыбаками ставных сетей.  Запутавшись в них она погибает через 5 минут. Современные сети прочны и долговечны, брошенные или забытые в водоемах превращаются в “конвейер” по уничтожению зверьков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948120" cy="2952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284720" y="3716280"/>
            <a:ext cx="468000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ff"/>
                </a:solidFill>
                <a:latin typeface="Arial"/>
              </a:rPr>
              <a:t>Выхухоль – символ русской природы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олный запрет на промысел выхухоли не решит проблему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3280" y="1557360"/>
            <a:ext cx="4500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еальная помощь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аспространение на радио, телевидение, в бумажных видах СМИ и сети Интернет социальной рекламы, посвещенной угрозе вымирания русской выхухоли вследствие широкого использования населением лесочных сетей и электроудочек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500720" cy="53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003280" y="0"/>
            <a:ext cx="4140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е допускать рекламу запрещенных орудий лова рыбы во всех средствах СМИ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ороться с продажей незаконных орудий лова рыбы и их использование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66ff"/>
                </a:solidFill>
                <a:latin typeface="Arial"/>
              </a:rPr>
              <a:t>Ребята!!! Вам симпатичен этот зверек?</a:t>
            </a:r>
            <a:r>
              <a:rPr b="1" i="1" lang="en-US" sz="4400" spc="-1" strike="noStrike">
                <a:solidFill>
                  <a:srgbClr val="cc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07664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ff"/>
                </a:solidFill>
                <a:latin typeface="Verdana"/>
              </a:rPr>
              <a:t>Подключайтесь к спасению  уникального зверя !!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Запомните сами, расскажите другим!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49568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ходясь на берегу водоем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е шумите, не разводите костры в неположенном месте;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овите рыбу только разрешенными снастям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бирайте за собой мусор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49568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Если в вашей местности водится этот удивительный зверек,  организуйте патрулирование прибрежной зоны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становите информационные щиты для отдыхающих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ивлекайте общественнос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5543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66ff"/>
                </a:solidFill>
                <a:latin typeface="Arial"/>
              </a:rPr>
              <a:t>Мы за них в ответе!!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400500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Garamond"/>
              </a:rPr>
              <a:t>Русская выхухоль малочисленный, реликтовый вид водных млекопитающих. Основные места обитания находятся в Европейской части России  Это единственное  млекопитающее в названии которого  фигурирует слово “русская”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Место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вы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х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х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ли с системе органического мира.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339640" y="2276640"/>
            <a:ext cx="8496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14127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140360" y="1052640"/>
            <a:ext cx="6383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Царство: Живо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1fcef1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Тип: Хордо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Класс: Млекопитающ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Отряд: Насекомояд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Семейство: Выхухоле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Род: Выхухо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1fcef1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Вид: Выхухоль рус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(Desmana moschata L</a:t>
            </a:r>
            <a:r>
              <a:rPr b="0" lang="ru-RU" sz="2800" spc="-1" strike="noStrike">
                <a:solidFill>
                  <a:srgbClr val="336600"/>
                </a:solidFill>
                <a:latin typeface="Verdana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0"/>
            <a:ext cx="97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cef1"/>
                </a:solidFill>
                <a:latin typeface="Verdana"/>
              </a:rPr>
              <a:t>     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Место</a:t>
            </a:r>
            <a:r>
              <a:rPr b="0" lang="en-US" sz="2800" spc="-1" strike="noStrike">
                <a:solidFill>
                  <a:srgbClr val="1fcef1"/>
                </a:solidFill>
                <a:latin typeface="Verdana"/>
              </a:rPr>
              <a:t> выхухо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ли </a:t>
            </a:r>
            <a:r>
              <a:rPr b="0" lang="en-US" sz="2800" spc="-1" strike="noStrike">
                <a:solidFill>
                  <a:srgbClr val="1fcef1"/>
                </a:solidFill>
                <a:latin typeface="Verdana"/>
              </a:rPr>
              <a:t>в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системе органическ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cef1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1fcef1"/>
                </a:solidFill>
                <a:latin typeface="Verdana"/>
              </a:rPr>
              <a:t>мира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-541440" y="-316080"/>
            <a:ext cx="10800000" cy="8209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4653000"/>
            <a:ext cx="946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Этот забавный и чрезвычайно симпатичный зверек является одним из древнейших млекопитающих, который обитает в Евразии вот уже 5 млн.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920" y="256680"/>
            <a:ext cx="7634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 наши дни основная часть популяции выхухоли обитает в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России – в основном в бассейнах рек Волги и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Дона, в меньшей степени – в бассейнах рек Днепра, Урала, Уй и Тобола.  Кроме России выхухоли обитают еще в Казахстане,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краине и Белоруссии, но и там их совсем немног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12061800" cy="7694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116000" y="4869000"/>
            <a:ext cx="1297080" cy="6490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67280" y="3860640"/>
            <a:ext cx="1296720" cy="64944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826920" y="2997000"/>
            <a:ext cx="1224000" cy="647640"/>
          </a:xfrm>
          <a:prstGeom prst="rightArrow">
            <a:avLst>
              <a:gd name="adj1" fmla="val 50000"/>
              <a:gd name="adj2" fmla="val 4724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08360" y="5589720"/>
            <a:ext cx="1297080" cy="6490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840000">
            <a:off x="395280" y="3860640"/>
            <a:ext cx="1297080" cy="64944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-72720" y="5047920"/>
            <a:ext cx="1297080" cy="6490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26560" y="333360"/>
            <a:ext cx="72644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прошлом выхухоль была широко распространена в бассейнах рек Днепра, Волги, Урала и ее ареал был более широким и сплошным, чем современны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ачале 1970 г. На территории России обитало около 69 тыс. выхухолей. Однако с этого времени численность зверьков и область их распространения стали резко сокращаться, из – за чего вид был включен в Красную книгу России, а также в Красную книгу Всемирного союза охраны природы. (МСОП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годня осталось только 25 тыс. хохул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468720" y="1628640"/>
            <a:ext cx="91551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7:07:48Z</dcterms:created>
  <dc:creator>Katya</dc:creator>
  <dc:description/>
  <dc:language>en-US</dc:language>
  <cp:lastModifiedBy>Natasha Novoselova</cp:lastModifiedBy>
  <dcterms:modified xsi:type="dcterms:W3CDTF">2009-10-25T03:15:11Z</dcterms:modified>
  <cp:revision>13</cp:revision>
  <dc:subject/>
  <dc:title>Русская выхухоль - чудо природы</dc:title>
</cp:coreProperties>
</file>